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F34-D8EB-4D43-B3D5-A1DEC9BE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A0E-B791-4B8C-8CD5-DF24F473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70E-49D4-4CFE-8B1C-AA3FEF09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9F2-ACFB-494C-ACB9-B6B385D2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0AC-C5E3-420A-B43C-1E26286E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43A-B533-4888-A6F9-BB37B5A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B11-35CD-4106-A1D7-D6BE412A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920-6A49-4E46-8EFF-1D9E2CED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9B1-5208-4297-81AE-F38A009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4EA-A6E9-440F-92F9-16C807A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749-EE32-47AC-9E67-8D37BD6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A24-B5E1-4F66-A590-5F83B03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E35-A5D2-4516-AFAF-0B7DFDD681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دورة بعنو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553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ن إع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أبو أسـا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9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MCS Jeddah S_I 3d."/>
              </a:rPr>
              <a:t>استراح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dvertisingLight"/>
              </a:rPr>
              <a:t>* جدول افتراضي لأنشطة وأعمال رجل عمره سبعون سن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92280"/>
          <a:ext cx="8569080" cy="3184560"/>
        </p:xfrm>
        <a:graphic>
          <a:graphicData uri="http://schemas.openxmlformats.org/drawingml/2006/table">
            <a:tbl>
              <a:tblPr/>
              <a:tblGrid>
                <a:gridCol w="792000"/>
                <a:gridCol w="765360"/>
                <a:gridCol w="777600"/>
                <a:gridCol w="781200"/>
                <a:gridCol w="777960"/>
                <a:gridCol w="780840"/>
                <a:gridCol w="777960"/>
                <a:gridCol w="781200"/>
                <a:gridCol w="777600"/>
                <a:gridCol w="779760"/>
                <a:gridCol w="777600"/>
              </a:tblGrid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باق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تصالات الهاتفية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نقل من مكان لآخر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نزلية والرحلات والتنزه بمعدل ساعة واحد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لقاءات الاجتماعية والودية بين الأصدقاء بمعدل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عتادة والمراجعات الحكومية بمعدل نصف ساع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كل والشرب بمعدل ساعة ونصف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عمل من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7</a:t>
                      </a: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وم (بمعدل ثماني ساعات يوميا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نوع النشا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و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ايستغرقه بالسنو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سبة السنوية من الع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مكتوب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جداول يو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خطط للأمور اليقينية أو المحتم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يومية وأسبوعية وشهرية وسن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كن مرناً في وضع خطط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إقضِ عشر دقائق في نهاية كل يوم لنشاطات اليوم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راجع خطتك دائماً (الأسبوعية – الجمعة ، الشهرية – نهاية الشهر ، السنوية – كل أربعة أو ثلاثة اشهر) وفي المراجعة قيم خطتك السابقة ، ورتب لخطتك القا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Shafa E_U 3D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خطيط جيد للوقت + إجراءات إيجابية لمواجهة مضيعات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= إدارة فعالة ل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ثانية: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1125360"/>
            <a:ext cx="7773840" cy="40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برمج نفسك أخي على أنك رجل فعّال مغتنم لوقتك ، وتخيل الناس وهم ينظرون إليك للإقتداء ،</a:t>
            </a:r>
            <a:br>
              <a:rPr sz="5400"/>
            </a:b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واعلم بأنك أهلٌ لذلك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dvertisingMedium"/>
              </a:rPr>
              <a:t>الإضاءة الثالثة: إدارة الأولويا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CS Taybah S_U normal.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DecoType Naskh Variants"/>
                <a:ea typeface="AL-Mohanad Bold"/>
              </a:rPr>
              <a:t> حدد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أك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ر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ضع جدولاً ل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</a:t>
            </a:r>
            <a:r>
              <a:rPr b="0" lang="ar-SA" sz="4000" spc="-1" strike="noStrike">
                <a:solidFill>
                  <a:srgbClr val="000000"/>
                </a:solidFill>
                <a:latin typeface="Eras Demi ITC"/>
                <a:cs typeface="AL-Mohanad Bold"/>
              </a:rPr>
              <a:t>هل درست جدول إيزنهاور لضبط الأولوي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جدول إيزن هاو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360" y="907560"/>
            <a:ext cx="295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 rtl="1">
              <a:lnSpc>
                <a:spcPct val="100000"/>
              </a:lnSpc>
              <a:spcBef>
                <a:spcPts val="5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DecoType Naskh Variants"/>
                <a:ea typeface="DecoType Naskh Variants"/>
              </a:rPr>
              <a:t>×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00" y="3611520"/>
            <a:ext cx="39560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غير عاج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الزيارات والمكالمات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زمات والمواقف الطارئة ، والمهام التي اقترب موعدها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عاجل وغير مهم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مور الروتينية والمكررة ، كحوائج المنزل أو السيارة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يخضع لرغبات الأهل والنفس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093080" y="4148280"/>
            <a:ext cx="1871640" cy="576000"/>
          </a:xfrm>
          <a:prstGeom prst="lef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060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06064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 بع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فضل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1341360"/>
            <a:ext cx="360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 rtl="1"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280" y="1484280"/>
            <a:ext cx="395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أخيرة: التنفي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ستعن باللـه ولا تعج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حولك وقوتك إلى حول اللـه وقوت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في الصباح الباكر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بالأهم فالمه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أنجز العمل المناسب في الوقت المناسب ، ولا تسوف أو تؤج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مضيعات الوقت ومن لصوص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ي مكان هادئ بعيداً عن الضوضا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لك جدولاً للأعمال الطارئة أياً كانت ، كالمكالمات أو الزيارات الغير متفق عليها سابقا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رر عبارة ”عد للعمل“ ، ”عد للعمل“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AL-Mohanad Bold"/>
              </a:rPr>
              <a:t> عليك بالدعاء ، ولا تنس تلبية حق الوالدين والأه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dvertisingLight"/>
              </a:rPr>
              <a:t>المراج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 المراجع التي تم الرجوع إليها للإفادة منها في هذه الد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وعلم إدارة الوقت . الجزء الثاني . أ. رعد حسن الص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عبداللـه البوص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محمد دي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إدارة الوقت (ضمن دورة تدريبية) للدكتور طارق السويدان. إصدار قرطبة للإنتاج 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تحكم في وقتك. بريان تر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قيمة الزمن عند العلماء. عبدالفتاح أبو غ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رسالة الوقت أنفاس لا تعود. الشيخ عبدالملك القا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محمد ناصرالدين الألباني محدث العصر وناصر السنة. إبراهيم الع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فائدة من العلامة ابن عثيمين (محاضرة صوتية). الشيخ محمد صالح المنج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6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45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1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1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685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94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205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نهاية المط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11 BT"/>
              </a:rPr>
              <a:t>ـ ولا أنسى أن أشكرك أخي على تفضلك بالاضطلاع على ما في طيات هذه الدورة التي استمتعنا سوياً بما فيها ، وأسأل اللـه بمنه وكرمه أن يرزقنا العمل بما فيها من صواب ، والعفو والمغفرة عما فيه من خطأ أو زل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ا أبرئ نفسي إنني بشــــــر       أسهو وأخطئ مالم يحمني قــ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ـا أرى عـذراً أولى بذي زلـل      مــــــــــــن أقــــــــول مقراً إننــي بشــ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لك مني ومن الإخوة بشبكة الأمجاد الإسلامية وافر التحايا وأطيب الأمن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315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695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Battar"/>
              </a:rPr>
              <a:t>محاور الدور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الوقت في الكتاب والسن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خصائص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ضاءات للناجحين مع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هذه حاله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دارة الوقت بفاعلي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3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كت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أقسم المولى سبحانه بأغلب الأوقات والأزمان لأهميتها ، فمن ذلك قوله تعالى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الفجر وليالٍ عش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، وقوله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ليل إذا يغشى والنهار إذا تجلى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يقول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عص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، يقول ابن عباس ـ رضي الله عنه ـ: "العصر هو : الزم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قال الشيخ : عطية محمد سالم ـ رحمه اللـه ـ: في الأضواء: ” هو الدهر كله ، أقسم اللـه به لما فيه من العجائب ، أمة تذهب ، وأمة تأتي ، وقدر ينفد ، وآية تظهر ، وهو هو لا يتغير ، ليل يعقبه نهار ، ونهار يطرده ليل ، فهو في نفسه عج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أرى الزمان سفينة تجري بنا          نـحو المنون ولا نرى حرك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سنة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في صحيح البخاري من حديث ابن عباس ـ رضي اللـه عنهما ـ قال : قال رسول اللـه 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$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 : ” نعمتان مغبون فيهما كثير من الناس : الصحة والفراغ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النعم ما يتنعم به الإنسان ويستلذ به ، والغبن أن يشتري بأضعاف الثمن ، أو يبيع بدون ثمن المثل“      ( ابن الخاز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فأفاد أن المستفيد من ذلك قِلَّة ، وأما الكثير مفرِّط مغبون ”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L-Mohanad Bold"/>
              </a:rPr>
              <a:t>                                                                ( عبدالفتاح أبو غد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خصائص الوقت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سرعة انقضائه: فهو يمر مر السحاب ، ويجري جري السحاب سواءً زمن مسرة وفرح ، أم كان اكتئاب وتر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 ما مضى منه لا يعود ولا يُعو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قال الحسن البصري ـ رحمه اللـه ـ: يا ابن آدم ... أنا خلق جديد ، وعلى عملي شهيد ، فتزود مني ، فإني إذا مضيت لا أعود إلى يوم القي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ه أنفس ما يملك الإنس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 قال طيفور البطامي ـ رحمه اللـه ـ: إن الليل والنهار رأس مال المؤمن ، ربحها الجنة ، وخسرانها 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إضاءات للناجحي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أبو النصر أباذي: ” مراعاة الوقت من علامات التيقظ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ابن مسعود ــ رضي اللـه عنه ــ : ” ما ندمت على شيء ندمي على يوم غربت شمسه نقص فيه أجلي ولم يزد فيه عملي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كان أبو مسلم الخولاني ـ رحمه اللـه ـ يقول: ” لو رأيت الجنة ما كان عندي مستزاد ، ولو رأيت النار غداً ما كان عندي مستزاد“ لأنه أوقاته معمورة بطاعة اللـ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ت داية داوود الطائي: يا أبا سليمان أما تشتهي الخبز . . .؟ قال: يا داية بين مضغ الخبز وشرب الفتيت قراءة خمسين آ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44032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فهذه حالهم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لقد ثبت بما لا يدع مجالاً للشك عن طلاب الشيخ ابن باز ـ رحمه اللـه ـ أن الشيخ كان دائماً ما يسبح بين إجابة على أسئلة المستفتين ، ومحاضراته المسموعة دالة على ذلك .                                                                                    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 ( الأخ أبو أسامه 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الشيخ الألباني ـ رحمه اللـه ـ يقول عن نفسه : ”ولذا فإنني ألازم هذه المكتبة ملازمة موظفيها لها ، ويتراوح ما أقضيه من الوقت فيها ما بين ست ساعات إلى ثماني ساعات يومياً ، على اختلاف النظام الصيفي والشتوي في  الدوام“ ، وأحياناً كان يبقى فيها اثنتي عشر ساعة ، لا يفتر عن المطالعة والتعليق والتحقيق إلا أثناء فترات الصلاة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( أ.إبراهيم العلي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إذا قلت إن الشيخ ابن عثيمين ـ رحمه اللـه ـ يمر الساعة الرابعة إلا خمس دقائق مثلاً من المكان الفلاني ، وهو ذاهب إلى المسجد ، فإنك تجده يمر بذلك المكان في ذلك الوقت بالضبط ، فهو يمشي كالساعة ، وإذا أعطى موعداً إلتزم به ، فقد جربت ذلك  بموعدين معه أسبوعياً على هاتفه الخاص خصصت للرد على المستفتين عن طريق الإنترنت ، فكان يلتزم بالإجابة ، ويخبر بالتأجيل إذا حصل ، مع كثرة مواعيده وأشغاله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( الشيخ محمد صالح المنجد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3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فما هي حالك أخي ...؟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* كيف ندير أوقاتنا بفاعليه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Sayf Bold"/>
              </a:rPr>
              <a:t>الإضاءة الأولى: ضع لك هدف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شروعاً بالإخلاص والمتابع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اقعياً : كن داعية ، وكن مخترعاً ، كن كي تك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أمامك تراه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فق ميولك واهتمامات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حدداً وقابلاً للتقييم : سأقرأ في اليوم ثلاثين صفح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باعثاً على التحدي: سأقيم مشروعاً دعوياً على مستوى الحي ولو كنت طالب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* تذك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Simple Bold Ruled"/>
              </a:rPr>
              <a:t>إحفز نفسك لتحقيق أهدافك ، وكافئها بعد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1:45:35Z</dcterms:created>
  <dc:creator>*************</dc:creator>
  <dc:description/>
  <dc:language>en-US</dc:language>
  <cp:lastModifiedBy>ajmifd0a</cp:lastModifiedBy>
  <dcterms:modified xsi:type="dcterms:W3CDTF">2007-06-27T05:59:34Z</dcterms:modified>
  <cp:revision>26</cp:revision>
  <dc:subject/>
  <dc:title>يسر منتدى صُنَّاع الأجياد  بشبكة الأمجاد الإسلامية أن يقدم هذه الدورة بعنوان:</dc:title>
</cp:coreProperties>
</file>